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EA2-D500-4C16-8C36-B23E4485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AD9-523E-4FFE-981E-3BB79A24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0C4-907B-4CAD-812F-91A13753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164-F045-4287-8202-B3AE1186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14DA-553B-4280-915B-BEFC1E70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964-3751-4998-BA8C-33D1B9F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54BB-2284-451D-8D89-A236343A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7AF-0FDE-49DB-9809-A5F3320D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C0B0-DD1A-404D-9A2E-F6A3FAE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74F-19DC-4A96-897B-713E0B75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D88B-49EF-4A28-8F43-80969791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969-527A-4481-A803-E314521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B742-A6AF-497A-AD4C-AE8E6B75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6140-B8DA-4F5C-A183-F49212F0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AB07-56AE-47A6-90E5-267FFBD9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09D6-FD72-41EE-8215-B55D3444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2CFF-F5E9-4AA5-A734-4F5B8D71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32E-555A-490A-944B-6E0293A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2D16-3B26-487C-B5DC-1C12A951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22C-3B19-45EC-A466-9AE55AA8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74E-1125-452C-8A71-EAE3B092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A76-EA46-4A5B-BBAF-09FC79B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9C7-2CE8-49A4-A7C9-4A799E1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DA4-A218-4C08-9ABF-27E01CA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43B3-7BD7-4D8F-84C8-6EA3FE0A9A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5F82-FD1B-43CB-95CC-F21B833649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The Heimlich Maneuver by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Alfred Darby 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0" y="6477120"/>
            <a:ext cx="76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ne knows when somebody going to ch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any body at any place and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762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No body kn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causes of 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ting (especially eating and laughing at the same time, and eating to fas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cohol and drug consumption (even a small amount affects awareness.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uma to the head and face (bleeding can cause choking)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objects swallowed by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Heimlich Maneuver help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imlich maneuver helps people because people can be choking at anytime and you can save their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re removing something stuck in the persons air pi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only takes 4 to 6 minutes to die without oxygen to the br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eimlich Maneuver on An Adult"/>
          <p:cNvPicPr/>
          <p:nvPr/>
        </p:nvPicPr>
        <p:blipFill>
          <a:blip r:embed="rId1"/>
          <a:stretch/>
        </p:blipFill>
        <p:spPr>
          <a:xfrm>
            <a:off x="6172200" y="4481640"/>
            <a:ext cx="2971800" cy="2376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81280" y="4267080"/>
            <a:ext cx="2455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eps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sk the choking person to stand if he or she is sitting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 yourself slightly behind the standing victim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assure the victim that you know the Heimlich maneuver and are going to help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lace your arms around the victim's waist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ke a fist with one hand and place your thumb toward the victim, just above his or her belly butto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rab your fist with your other han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eliver five upward squeeze-thrusts into the abdomen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Make each squeeze-thrust strong enough to dislodge a foreign body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derstand that your thrusts make the diaphragm move air out of the victim's lungs, creating a kind of artificial cough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1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Keep a firm grip on the victim, since he or she can lose consciousness and fall to the ground if the Heimlich maneuver is not effective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tep1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peat the Heimlich maneuver until the foreign body is expelled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943600" y="1828800"/>
            <a:ext cx="205740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o I Use The Heimlich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To Do The Heimlich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YOU ENJOY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95280" y="2666880"/>
            <a:ext cx="4929480" cy="18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z O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6:00:01Z</dcterms:created>
  <dc:creator>046student</dc:creator>
  <dc:description/>
  <dc:language>en-US</dc:language>
  <cp:lastModifiedBy>046student</cp:lastModifiedBy>
  <dcterms:modified xsi:type="dcterms:W3CDTF">2008-10-31T15:20:24Z</dcterms:modified>
  <cp:revision>3</cp:revision>
  <dc:subject/>
  <dc:title>The Heimlich Maneuver by Alfred Darby  </dc:title>
</cp:coreProperties>
</file>